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5F5C-E38C-4D67-95BE-434D4A64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1F86-8132-4748-9545-C8605474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25F6-10D7-46E4-A0F9-A3830E90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6F24-6759-4DDA-A70B-EBDADB66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417E-2DB9-4CBE-AB8E-C5C076D3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8EB3-B091-4BE4-B3CE-3D0CE4B4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A7A1-77B9-4B8D-AC94-3C76C94C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D4FC-AA19-41CD-A2DD-32838D44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AF46-CFE4-482C-BB5B-855767E8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831A-2042-4163-83AD-B1AFB64A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ACD0-73D2-4363-BF9D-71493021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C0F0-4A6D-4AC9-9CE1-9D8DB818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C1E0-29F9-4038-BB9F-C7336148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9778-A06D-4D8F-8815-B43BFC71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83AB-F56A-48A0-8A22-5C2DF196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E9C1-F602-488E-96E2-2A503939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9270-D805-48A5-8AF0-42852F1B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367B-FFEE-4911-8382-4C74EABC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4578-D820-4ED0-81E5-0C367459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2B5D-8A43-4568-8A98-59DB53D6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9A77-2AF9-456D-96F1-908CC65C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CBE3-27A1-4B53-BB83-9B6D74CB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9941-0CDF-4D43-BF72-906B9626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51F0-D971-4382-B89A-6667DC62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01E3-8FE9-4955-8079-33995657A02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21D5-65FA-4029-9C06-B4503EF0998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rm-Up Senten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d you no that sum kinds of wasps builds nests out of mu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Queen be can live for 5 years and lie millions of eggs in her lifetim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Journal #27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If you could create any new class for the school, what would it be?  Why would you want this class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rm-Up Senten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f your looking for all As in weightlifting, get information on hand-strengthening exercises at Sports Health five twenty-seven W. Windsor rd. Glendale Cal. 91204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500,000 workers are employed by McDonald’s resturants in the United States and Canada, more than 1 our of every eight Americans has worked in the chain restaurant at some point in lif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Journal #28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omplete the following statement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I’m thankful for…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-457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Friday Warm-up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610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 adverb modifies a verb, an adjective, or another adverb.  An adverb answers the questions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Where? When? How?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r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How much/to what exten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4038480"/>
            <a:ext cx="8458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Write five sentences with adverbs that modify verbs.  Write which question about verbs each adverb answers.  Circle the verbs.  Underline the adverbs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Ex)  Tommy </a:t>
            </a:r>
            <a:r>
              <a:rPr b="0" lang="en-US" sz="1800" spc="-1" strike="noStrike" u="sng">
                <a:solidFill>
                  <a:srgbClr val="eaeaea"/>
                </a:solidFill>
                <a:uFillTx/>
                <a:latin typeface="Tahoma"/>
              </a:rPr>
              <a:t>quickly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jumped out of the car.  </a:t>
            </a: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How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5105520"/>
            <a:ext cx="838080" cy="45720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57:32Z</dcterms:created>
  <dc:creator>tpagel</dc:creator>
  <dc:description/>
  <dc:language>en-US</dc:language>
  <cp:lastModifiedBy>tpagel</cp:lastModifiedBy>
  <dcterms:modified xsi:type="dcterms:W3CDTF">2010-06-03T16:58:02Z</dcterms:modified>
  <cp:revision>1</cp:revision>
  <dc:subject/>
  <dc:title>Warm-Up Sentences</dc:title>
</cp:coreProperties>
</file>